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35B-3C4F-425E-980F-D9345940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024-FCA6-4BCE-8D96-2EF91582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7D9EE-C7F8-46B2-9A79-82A2EF5E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337F8-203A-4A19-A162-83311363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1CBF4-39B0-4149-B4B8-8086FD96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5F56C-97EA-441D-88A7-8DB7ADB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FDE0B-081D-4B45-BE87-9DA44EE1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9758F-1176-4216-A0FD-54B66E93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D8709-75B5-4D14-A4DC-CE788A37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8C53B-06B9-403E-B698-7B07EDCD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CD194-B2F5-411C-AB1A-14D4BDF8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91EAC-F67B-4C82-BD60-5D016296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760-8E73-457E-A7FD-50F42B15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16F89-654B-4623-A0C1-E54EE374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2C1F3-97BD-4FE6-A682-97760607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D4F55-7703-40ED-B466-B81D8B09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D8041-4DC0-411B-8C67-F1CDB975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84FB5-0CFD-4F89-8708-222E5894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21794-D47F-4BF0-966B-969A6A7A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195EC-00BD-40BF-AE40-A17416F7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6AE86-B96A-4F47-A694-4BEDB609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B469E-DC21-4170-B206-7B6F66C4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808A6-504A-47BB-A0DA-E18A5020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3AB-ED74-4EDA-BC5D-061435AD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D2AAC-387B-4E09-A768-B164C0C8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DE38E-A7C3-495C-8517-BC2B79BE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DF513-61E4-48CC-AE12-6552D13A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6F9B8-D6B2-41A1-9231-04A06B34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DE18C-A993-4525-B09C-1C168C22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4B0A5-AA68-4AB1-9BDE-55B31443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A402D-AD8C-466A-83BC-D8E93F5C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3BDFE-653F-4F67-99AD-46FEF6F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E13DF-5C2F-4E33-A3A5-B6D89A43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C0151-CD37-463C-8266-DCD528FC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E93B-1B59-4FD3-B5E6-1B2C0BCA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E06A6-B623-4C21-80B5-5AEDF76E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AEF6B-A1D6-40C7-9F45-1D7B2730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608BB-273B-41BF-BB4B-572475FA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DCFD7-A040-4FF0-AA55-DBC15BC1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20C03-8CBA-493C-BD69-A041ED14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92E2C-6A56-458C-A328-4530C5DF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2C77E-C2E6-4BF4-BB67-BC334503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34AB3-0768-48DD-B851-27908385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BAF1D-F37D-40A7-B0BB-3B337C61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5A0BA-43DF-4752-BB3C-149E6D3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56C7-83E7-48C9-A7D5-9EC24B31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26B9F-7B6B-41D8-B3EE-51268F9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47D71-E94D-4B76-A238-2CD5669C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E15B9-D0E9-4056-A856-D6F06AD1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598D5-44FE-482C-938D-CEDA1575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2EDD7-67D7-45DE-8070-C2B71BA0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14DE7-62D0-4437-9124-90175484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B3249-E93C-4EB7-BF4D-8278297E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6F24D-63B3-43D8-858C-EC8CCF48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5E468-9AB4-4E3F-8029-9CD76414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D2238-C8A8-4F1B-B0B0-01314042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02B2-3C1C-4CB2-9999-D0CAA68A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11FD0-CA6E-4277-9CF5-BB8A441A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3A143-922B-4EEA-862C-AA460E44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9D8A0-9691-43E7-81D0-30BFEDC5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BCB9D-58FD-4893-B77D-8A25771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E675B-B685-40FE-B82D-0B409167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0F465-04E5-4293-AB36-5DDC594C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D4E6A-ADCD-4718-804E-35F2EC4A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8C418-8E7E-4258-8A5B-DA9ED269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4FDEC-5ADB-4146-904A-D2C990D2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5C49D-F2FA-4CE0-B6E1-055FC3F7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FFAA-E190-4A20-AA20-72F4AC0A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7BFAE-A1B3-4D72-9E8F-1EF4C23C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EE8B0-A850-4BCA-B6D2-0F647654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203EB-3E1E-4D68-80DC-5314ADFD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DCA86-878E-41E5-AB21-00E21589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6E9AB-06C7-4F17-942A-F3C41D1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F252C-73F8-4ECD-AB4C-46B98A5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549BF-EBCC-456C-B204-56FCC1F4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1E513-796C-49FE-94F6-DC95A6F3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7E7E3-A65C-467D-A58F-B1AE7F4C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3D373-056F-4540-A9FA-A309FEEE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BA2E-A06D-4915-A3C1-67694C77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ECE4E-E52A-446A-A804-B8635AE6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D5202-ACE5-499A-8D2A-5394A441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4336C-CC71-4FED-ABCA-8D5F95D9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20F46-AA36-4385-B5FE-6E154B60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626F5-0ECF-496B-A618-AC549A0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0DD09-4E2A-40A1-969C-3ABF5B88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9FCCD-71E4-46EB-9AC1-14AB2630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95070-09CD-4205-B15E-8BFA8CA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ED608-169B-4F4D-93D9-C433ADA3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79610-0645-423B-A103-2C1DCF05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803F-E7A8-4A96-B53A-C5D08FFE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1ED24-9094-4F99-99A4-4EB25C5A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7690B-E4D9-46AB-B771-BEF15B35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CC3BA-85D5-4E51-BFBD-C56894A9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5F72F-EE37-492E-8D9F-ADB614A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D24BB-88BC-4DA8-8C7D-116ED0E3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39C409-DE08-48B2-BB0F-A33F9B50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5AB20-844C-465E-A2DF-B0EF1CD5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15AF7-2F31-4CC0-9522-A8F8517A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18E69-19A6-4C5F-B549-8B11C221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6E727-CED3-4D4C-BDD0-E8C28F3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BDD4-50E8-477C-87DB-D7433B5B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A1320-59ED-4509-87BC-3E51301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B0E147-DCF1-42AA-9EA8-49AEC73E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CC7F4-2AF8-403A-A58A-1DE39AC4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680506-0949-4917-AA91-FE84A66A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F6126-6B3F-4E20-B465-9A5B7A9E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CE082-558B-4BBC-9376-A28D878E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3B0D7-D192-4C08-B654-088E9CBB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BFC36-9E6A-4B79-B9DF-04F13F79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925B7-8439-457E-B736-2DB11C03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933FF-DF31-4BE1-BDFB-76C0FC70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098-5CD9-46F3-BDC3-363CDCA4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5FE7-4FB1-4715-8045-826FB194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27210-29D8-46D0-959F-0E0B12D9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D2F28-DD8E-4217-9A25-B95FA610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58E68-7DB4-478A-91B8-363A7B2F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F6832-6860-4312-929A-FB897280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6DB87-EC1E-47F5-BBA3-A7D0CB9F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CA538-E072-4BF3-A922-46F6656D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01546-06C7-4ED8-AD97-D133E745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D5F29-9C6A-49A9-84B4-57B3FB6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B8247-2771-4465-A626-9B592E13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EB6FB-7901-4768-8CC4-753B790C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2F0-C452-4E73-907C-C515178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BA2059-A5E8-48AB-9227-D3418814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763A7-90F3-4AF6-97C6-29AB8357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7EC29-A55A-4471-AF4C-38121112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9A8EC-2D1F-4EB5-8239-A7D9596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FE4CA-AE30-41E9-B5B3-1132DEFC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4E289-1244-4B9C-9C85-2ACB6B4C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03659-869E-4C91-922C-810D4E83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16ABA-1B29-4ED8-9B1A-66189B40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C276A-25F2-4DE2-A73F-C6A766E0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6BDCD5-91F3-4009-9569-16576D4E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086B-2589-441F-8EF3-F852C108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C78DE-237C-448F-84B7-B1C58A41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F81433-5E78-4A25-99CD-382325F4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756B3-DEE6-4F65-9C02-5286F647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7C9FEA-D940-4BD4-8477-DDDCFAD2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68264-87CF-416B-AC47-B0A7D70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6D76F-DD18-4B5D-AC58-AEE540B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62F16-A947-4EC5-8B8A-08F95E5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2A57EE-EBF5-4855-9C2D-123132F3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FFFBC-D2F7-4BAF-87FE-98AC7924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B90D3-706A-4E23-801F-23575671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7CA0-B03B-46A5-8D26-ACC44356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68222-84DA-49DA-BADA-2E98EC49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52D11-0094-4A86-927A-E4AFA55C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93664C-5EDC-4036-BD4C-FD67E12B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6EE8E-B79D-474A-A526-A5688E49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21A41D-6874-4335-8171-0887A4B2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F5D516-5C68-4D07-BEE6-254BA7BA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478DA7-DF2A-4A10-856F-909DA34A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62DF74-EA59-4F57-91DA-1AE53182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87B3D-FD21-4F8B-8BDE-7A72A5B4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CDF6A-57A7-4D17-A6FE-C43CB5A2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6A5D-7628-40F2-B9B4-2E81AB51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AB373A-ED88-40BC-B142-1CCE25C1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91172E-6A0D-4005-919C-2DF3E5DD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FE572-8858-4B70-A87B-9BD1854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683450-4F99-41F9-9B57-2ADF1B59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107D5E-85A1-489C-9951-C918E65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8957B-9186-4961-8922-A56905D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5BF01C-E1EA-450B-8F13-9FEFB4F8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328510-D489-4B8A-9CC0-34E33D8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C4A529-6071-4060-B766-DC9CA0A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7EBD2-7BA2-452F-9C45-6925E973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7153-DA9D-48B8-88AE-78998171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5045C-F875-4D39-A355-239E5EA5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65CFF0-1314-41D1-9004-0851D488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675169-B16E-4E43-8280-502066D2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3E0DC-DB5E-4378-B734-297D8F43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E18924-6A01-4C53-B890-EB3439BE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09529D-A84C-4EB0-A8E4-19E30DAB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AE1835-CAE6-4005-9E78-BA9AEF9E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4DD1B9-121B-493F-B4FE-86517D44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081354-A247-40DC-B2A0-5D76AC64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5B63E6-668B-4F79-AF99-53479FC3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BB53-1E82-4919-BF05-4EF334EF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2F3AF-EF39-480C-8FF4-EC4D6EAB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00B883-8236-49CC-8AB4-1F41D9F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31EA44-99AE-4EF6-B071-98445874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1D2DF-5169-494F-B83F-4B3CADDE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847EFA-B665-4EF3-B4FC-DBE7C78B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BD321C-0D3B-40B6-8D7F-E4E7E4E3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3B5AD-CE1C-4698-B759-BC9E31E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9AD60B-4393-4A2E-A4D7-9B46D75C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9EFC4A-6B13-4F2E-B6C4-34F92A7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87DA7-3D16-4C54-80C4-24626EA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D096-5681-43AD-81FC-5D28858F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57C928-7669-4B4C-92B0-FA9F8D80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CA3C10-3172-44C4-A406-1C90209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BC2A55-3BCD-4B23-9A8D-41FFEC39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E62BD2-8949-4C33-A4CE-3BF626E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163B0C-3ED8-449C-B1E9-AC232748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6236BB-4E5B-4C99-9FE2-5919EDC9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FD0673-6760-4107-BA6D-387E9A83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4D84-B635-4A7D-808F-056FAB53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999B-C1FD-4535-BF9C-9B977BE2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F94-B3B2-4B84-97E6-EDCBE44A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A27B-64DD-47B3-85CF-404D5BD5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61D9-B55B-4F43-A85E-57C412FE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C2F2C-2F60-455A-9574-5B11E9FC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63C8-D8A8-46A5-84F0-6C989687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863D-9294-42A5-A1D2-94DC28D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B5B5-75B9-4995-BBB5-CCA9E340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12F6-27B3-4608-A226-BB058AB4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B504-66DA-42B9-9704-2A7E4C45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1EC5D-C04A-4F70-92BA-A3B5AE6A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A4C8-4930-4F34-AC5B-4376BDE8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5EA-2D61-4131-8623-5626D72B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13FF4-319E-4887-94B9-B87C312A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56821-A073-4013-8200-176749B6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D071-C393-4471-A013-F763F696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52207-E9F6-4FD9-8E67-99A5BB5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1028-91DF-495F-855C-68CEF11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71FC-7E95-4098-8640-63D3C3F5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72F1-178A-469A-8DF2-E186E687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66D0-E66D-47DC-AB71-BDDCFC99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DEA09-71AD-4B03-AA8D-98754708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5969F-02E7-4433-971D-2F12E562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487-D683-45AD-ADB9-BDB38161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B605-A585-4A82-A85C-7C82B528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DB58D-DAB8-4812-8EAF-3C4631E9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73A13-F7A7-4A5D-B33C-C1616299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DFC2C-33AA-4649-AC25-7FA572AD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51F29-4A92-4FA7-A99C-9D4E83D6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51E95-00D6-4B1E-A239-14AC8E1E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E95E9-B7ED-4CFF-A7BE-7FEA5D2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E93F5-82ED-4079-98B7-79E2FA9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A508-64D6-4FE3-B415-DFE8ACA7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63BD2-0CBB-4BB7-9E9B-BEFE5D7F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373-FDF8-46E6-A626-60F22963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D1B9C-E7D2-40D0-81AC-7C5D04CC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EA855-7857-4CF5-9B0E-6EB02478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09DDC-4580-4134-BFE0-3D680A4F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085BE-D7E0-4793-8AD1-832875D0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02C3-9B92-4667-A9CF-625AFDFF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4D29-B6A7-49D7-A657-1F979F61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4BF1-6535-4EFF-A8BB-D87E5DE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F346-56FD-4275-91DC-BF14EF95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6CB10-030C-4DA1-8C7A-0B632ADD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80241-FD05-49F1-85E2-B15AA5E0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50D-47F6-4358-80B6-F405AE56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4120-0B21-49E8-A675-987350BA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1EAC-A8D7-43BC-9141-BF0B31EA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C8281-F571-4330-8A75-3FC9B3BB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E4EDE-D3EC-4456-AB2C-77A29115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1ACA7-1256-46FC-A4F6-9A38C96F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663C-6B87-4E18-881A-E58C8972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C358E-A9CB-4E02-8A48-CC98FCE3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66354-F68C-40DE-81AA-100CAAFC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A315-4885-4F0A-871F-0436A7B5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D0E99-593B-46DD-A7DB-AD915546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B31-DA17-4F8C-A9A4-30A23845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56DD6-0C78-4C52-9811-7781D4EE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BA9CB-06DF-4DA6-963F-BF7764DB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B1E76-911D-4FAA-BDDD-F9423847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5E13F-69C8-4D86-BABC-1ECFEC39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562B-F31E-417E-97D2-DBDFC777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00046-EF47-4DC3-A89C-278FDD97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13578-84A9-4CF5-9C28-B1459374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179EC-3A3B-40E6-9CEE-8F87D7B5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5F2DB-3595-4A24-B2E2-AEB29A86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68B7D-A4CA-4A29-B8F3-A7BF22D2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A58-104C-4B00-9C69-6DE12DC5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357D2-01F0-4CC1-B493-CB171083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E609E-9CFB-43AD-BEC3-9615656B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FA9D6-F41A-41EF-8B53-B7A1468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7487E-806C-49D8-88D3-6816195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CF13D-D81D-4ECA-ADD1-76ABC9E6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D6E4E-9ABF-4685-8527-8201BCBE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6DF8B-BD7F-4C37-AA41-93F174E3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A9020-F303-4C08-8F16-A9694FFA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69D1A-0ABE-412E-B6F8-48D7D0D3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F1F4C-64D8-44F0-95D5-518C1394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316B-C073-4B01-A4D2-4D414E6A87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553C-0D21-4C95-AEA0-0F56ED654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7863-95D8-494F-BBB3-6804C4096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925D-EE11-49A8-AAE5-988A952F6D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A094-7F56-4304-B5FC-1B82AD69B8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666D-8F31-47CC-9F34-6324BF69B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1C73-C7DA-4FA3-B43E-AB66DD0CF8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9644-3BE8-4FD0-B612-D08210FDA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333F-84DD-4F90-B40A-DA3C59FCE6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9C78-3E26-4114-BAEC-1051840ABD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6DB0-1ACD-4D1E-820C-14E783D0CB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A953-B7C0-4ECA-AF48-7852F3D2DA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06D4-9A73-4B83-8B6C-B7B451A26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0BDC-ED5E-4FEC-B035-5B0F4F6E41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5EE9-B177-498A-9F34-F021138B3F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4E53-D69E-4306-8202-5F1F36CD85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9B12-555D-47D4-9E03-08DA39D690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8B98-9641-45C9-A342-3FF9A17B4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4719-1288-47DB-BA31-C7B6594626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EC25-D116-4464-8910-2B1E29498A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8355-CC67-4B4F-AF65-29C80914A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563B-B57B-424A-BE6D-23721BDDB6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7173-5030-4959-AEF0-EF70089922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3BC3-562D-4DF3-A407-45A1F5B853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AD49-0816-4F29-B661-1392CBBF15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2310-2C23-41C4-B8D8-517145A4F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6A91-EC59-4FDE-BAD7-B960BA5013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64A6-1C25-45DB-9D3D-6DBEF1D7D3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7D2-A5E2-4EBE-9310-71004CABB6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4C31-88FB-4999-9531-46DB5A7A8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1588-C08D-4F5D-AD7F-6C41BB0C6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4285-8FDB-46CD-8527-A596A43D5B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5AB-5A24-4397-AC4D-08839B3B64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A121-8650-4056-8B7B-A37DE3BA7D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2098-8EE7-4E12-BDF8-D3DA06B3FC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387D-2C0E-461D-8D94-E18A4AB57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D00D-A41A-493C-A3B2-B2D61EA7D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CB9-2EB5-455B-A0CE-6595A64DC6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243-5760-4358-A9AF-7B9215618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74A2-F0DB-476D-AFD8-D5D4E0488E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0267-FF12-4BD5-B0E4-6CA8D3DC2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76C5-9948-4E36-9247-EAA25FF32B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00120" y="2990880"/>
            <a:ext cx="7943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1028880" y="194328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1187280" y="211932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1258920" y="2781360"/>
            <a:ext cx="374472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5"/>
          <a:stretch/>
        </p:blipFill>
        <p:spPr>
          <a:xfrm>
            <a:off x="1042920" y="4249800"/>
            <a:ext cx="691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95400" y="590400"/>
            <a:ext cx="8953200" cy="61722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971640" y="5877000"/>
            <a:ext cx="453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57040" y="1128600"/>
            <a:ext cx="8629920" cy="46008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38200" y="1576440"/>
            <a:ext cx="8067600" cy="37051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6732720" y="276552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3059280" y="4508640"/>
            <a:ext cx="115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223920" y="730080"/>
            <a:ext cx="8696160" cy="60296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2411280" y="25495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4572000" y="2565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4140360" y="34574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724360" y="34574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1979640" y="433548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7"/>
          <a:stretch/>
        </p:blipFill>
        <p:spPr>
          <a:xfrm>
            <a:off x="4657680" y="43513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8"/>
          <a:stretch/>
        </p:blipFill>
        <p:spPr>
          <a:xfrm>
            <a:off x="7164360" y="43369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9"/>
          <a:stretch/>
        </p:blipFill>
        <p:spPr>
          <a:xfrm>
            <a:off x="4067280" y="5229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10"/>
          <a:stretch/>
        </p:blipFill>
        <p:spPr>
          <a:xfrm>
            <a:off x="5724360" y="52434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11"/>
          <a:stretch/>
        </p:blipFill>
        <p:spPr>
          <a:xfrm>
            <a:off x="7524720" y="5229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12"/>
          <a:stretch/>
        </p:blipFill>
        <p:spPr>
          <a:xfrm>
            <a:off x="4054320" y="61214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13"/>
          <a:stretch/>
        </p:blipFill>
        <p:spPr>
          <a:xfrm>
            <a:off x="5754600" y="61358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14"/>
          <a:stretch/>
        </p:blipFill>
        <p:spPr>
          <a:xfrm>
            <a:off x="7512120" y="612144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90440" y="1562040"/>
            <a:ext cx="8763120" cy="3733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5148360" y="24066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5003640" y="29098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2340000" y="4653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4716360" y="4653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7380360" y="465300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76360" y="1266840"/>
            <a:ext cx="7991280" cy="4324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2765520"/>
            <a:ext cx="36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900000" y="4883040"/>
            <a:ext cx="648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23840" y="838080"/>
            <a:ext cx="8896320" cy="5181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692360" y="250668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908000" y="322740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849320" y="3948120"/>
            <a:ext cx="9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824120" y="2071800"/>
            <a:ext cx="5495760" cy="2714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908000" y="1989000"/>
            <a:ext cx="29512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908000" y="2708280"/>
            <a:ext cx="2951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979640" y="3429000"/>
            <a:ext cx="29512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763640" y="4149720"/>
            <a:ext cx="590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00160" y="776160"/>
            <a:ext cx="8743680" cy="53056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547640" y="3298680"/>
            <a:ext cx="17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7237440" y="394812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4:0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